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EB7-F508-4689-81DF-164BB55F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11D-43AD-4F75-A243-AD6CA77B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177E-1BC8-4C0A-B404-3FF891CF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39E-35B5-4726-B5FB-3472C177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BB2D-21CC-48A1-B88A-52DD399A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5018-8765-4C67-8BEE-0843EF87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1EB0-B214-4AF0-A721-CD0EAD29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AB75-C8DB-4AAD-BB5C-B7ABC9C4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4391-7101-411E-B41C-ADA0AF96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56A6-69E4-431D-9357-7951549D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8EAD-4D7B-4AB3-907A-130C794A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6F4-35F9-4D29-99A2-D16C7BC8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FE90-A63E-47F5-B429-615A9B01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7963-CD87-4979-8E13-A48A08CF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6CA6-570F-4AD6-A9D7-41048722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D267-B084-48E2-80AC-0382D5E9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7D96-45B8-4A59-83C8-68D4B740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A9327-3F55-4A15-96B3-58DE2CE0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A178E-7C8E-4F03-88DA-3F23A7B4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34CB-D7E2-4DDF-9F60-84C23D60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BBAB-394E-4102-9126-A91131C4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72D7-C97F-494E-8B0B-9D03BDC7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367-7889-4B92-85AB-A9D749DE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BA4E9-D5DA-48EC-AFDF-5C1FA393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017D4-0AA0-4A3F-B12C-D55CB694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8976-4648-41FA-949B-4BD1F8C1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70B5-DC36-4BB6-825E-F8DDA58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2797-923C-43FC-835A-F5AFF25A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EAC3-9782-4AC5-8CD7-7FA53C34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DCF0C-5034-4EF0-BB3A-873AB120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278A2-1E30-40AE-90DB-A38A5EB6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4B80A-D400-41B0-B321-E2929D3F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B60C-68E7-418B-A473-61942994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1A3-293D-4E28-B8DB-99A76A7B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45A1-2FE6-4B9F-ADE9-2968A999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E5240-0121-4E51-A38E-431E0A66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F28A8-FCB9-4632-9937-AE50CAAB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F758E-4351-4E0D-B8BC-29344226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C6FAF-F3C9-4058-9DB3-362EF4FF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994AA-9374-497B-9002-EF984D74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825DC-F1EB-4AD7-BA6F-39F80312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8C033-7F51-4006-9A83-6B77DE43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AC11-1B2B-4772-A17E-679F3C8F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F7063-7401-4346-9370-94858359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629-DEE2-496A-9F7A-CB573299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D882A-ABED-4AD9-B8EC-50B4BFC1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800C2-5B7F-4E65-A8DE-500D28B0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80C17-37AB-4629-BC2B-4952CF6B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F557D-7BA1-4AE9-8EFE-A0BE9BC6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7AC65-50E0-4CC2-A58D-CC7FD4BF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FA804-803C-44B7-904F-88929FD5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132ED-AD4E-4B7A-9F71-7C5534E4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12D2B-535B-49E3-A8F8-53AF0391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4E51E-9E93-4E3C-A79D-1CEFC0E9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9DD30-5DBE-4BCE-A674-510EB5C3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F12-BF9F-4A3F-BFBF-DAED7AF5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2994E-0555-49C3-A57C-582389EF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74C-B683-488D-A2B4-DFCB1D39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AB4-C29E-473D-96AE-A7DB0513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76E-08F7-415D-93D4-E0E24E1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7D49-8EA9-4AC9-B8ED-C3A13BA3EE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765C-7851-4E7F-97A8-A02ECC691A5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5328-294C-468C-9926-9C5F508E6DA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906D-0460-497E-BB16-5C11B6F9250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EB01-DE96-4D95-B43C-712F05ADC64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dule 18</a:t>
            </a:r>
            <a:br>
              <a:rPr sz="4000"/>
            </a:b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formation Process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hearsal Issu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xt-in-line-effect – poorest memories of those just in-front of u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acing effect – best for retention is to spread rehearsal ou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rial position effect – Best memories for first and last items on a lis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238880" cy="56325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Ebbinghaus’ Retention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34320" cy="56358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The Serial Position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Encoding Strategies: Improving memory performance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coding Meaning (semantic encoding) – meaning is remembered not so much the exact wor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coding Imagery: i.e. mnemonic devices and story tel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ganizing Information for Enco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un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ierarch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782040" cy="5576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Effects of Chunking on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1808280" cy="52578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Times New Roman"/>
              </a:rPr>
              <a:t>Example of Chunking--For Those Who Read Chi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555480" y="1874880"/>
            <a:ext cx="8026560" cy="31114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Organization Benefits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orage: Retaining Inform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nsory Memo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conic memory – fleeting photographic memor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choic memory – fleeting sound memory.  “What’d you just say?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555480" y="712800"/>
            <a:ext cx="8026560" cy="54356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45720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Momentary Photographic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he Phenomenon of Memo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hort-Term Memo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ithout active processing it has limited life span (duration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7 give or take 2 (capacity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782040" cy="55926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Short-Term Memory Dec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ong-Term Memo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mitl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oring Memories in the Br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ynaptic Chang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092480" cy="2576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10040" cy="25513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Doubled Receptor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1335240" y="541008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potentiation (LT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ess Hormones and Memor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ess hormones – more glucose in blood stream results in more fuel for brain activit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ttach emotion to ev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555480" y="2109960"/>
            <a:ext cx="8026560" cy="26413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Memory Sub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1326240" y="5486400"/>
            <a:ext cx="78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nesic patients still have nondeclarative memory means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is not a unified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1165320" y="725400"/>
            <a:ext cx="6807240" cy="54104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The Hippoca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trieval: Getting Information Ou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trieval Cu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2895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text Effects – deja vu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ods and Memories – mood congru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enny memor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Content Placeholder 4" descr="Pennies.jpg"/>
          <p:cNvPicPr/>
          <p:nvPr/>
        </p:nvPicPr>
        <p:blipFill>
          <a:blip r:embed="rId1"/>
          <a:stretch/>
        </p:blipFill>
        <p:spPr>
          <a:xfrm>
            <a:off x="1722600" y="1447920"/>
            <a:ext cx="615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705360" cy="55530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Priming--Awakening Assoc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858000" cy="54486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The Effects of Context on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Improving Memo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6" name="Macintosh HD:Users:HPlouffe:Downloads:Memory_as_a_Biological_Process.mov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37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9" name="Macintosh HD:Users:HPlouffe:Desktop:Theoretical_Application_of_Memory_Study.mov" descr=""/>
          <p:cNvPicPr/>
          <p:nvPr/>
        </p:nvPicPr>
        <p:blipFill>
          <a:blip r:embed="rId1"/>
          <a:stretch/>
        </p:blipFill>
        <p:spPr>
          <a:xfrm>
            <a:off x="914400" y="819000"/>
            <a:ext cx="7442280" cy="558180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formation Process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3848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Times New Roman"/>
              </a:rPr>
              <a:t>Atkinson-Shiffrin’s Three Stage Processing Model of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1066680" y="5562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y – Short term (working memory RAM) – Long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ncoding: Getting Information 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3276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tomatic Process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ffortful Process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xploring in Modules, Modul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5434200" cy="5796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5335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Automatic vs. Effortful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45720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hea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0:30:45Z</dcterms:created>
  <dc:creator>bfw</dc:creator>
  <dc:description/>
  <dc:language>en-US</dc:language>
  <cp:lastModifiedBy>MacAdmin Kis</cp:lastModifiedBy>
  <dcterms:modified xsi:type="dcterms:W3CDTF">2009-04-22T04:38:09Z</dcterms:modified>
  <cp:revision>60</cp:revision>
  <dc:subject/>
  <dc:title>Module 23 Introduction to Memory</dc:title>
</cp:coreProperties>
</file>